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43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48.jpeg" ContentType="image/jpeg"/>
  <Override PartName="/ppt/media/image50.jpeg" ContentType="image/jpe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FF99-E9B7-4F0D-8B9E-1A0E8EBF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03D-4532-4DEE-84D7-476A4359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895-4B3C-4F39-B805-B7C7C430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97F3-2D43-4691-A846-BB3C7851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4A1F-49B6-4CB4-ABC5-C4AB34C8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AF25-926F-46B7-BB85-0561946B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9CC-5141-4D0C-BAAB-449D60A6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D78D-A41C-4B27-BE71-BD49D1E0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8C6F-DECE-4B2F-BEC8-A800DA9B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E7F0-D690-4367-BA20-C67DEB7F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2AB0-E245-4363-A9FB-57ADB8C9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0E7A-7F06-4CB3-84DF-27126733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7E91-89D8-4CC2-A304-4FB2BB6718A2}" type="slidenum">
              <a:rPr b="0" lang="es-C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38.png"/><Relationship Id="rId39" Type="http://schemas.openxmlformats.org/officeDocument/2006/relationships/image" Target="../media/image39.png"/><Relationship Id="rId40" Type="http://schemas.openxmlformats.org/officeDocument/2006/relationships/image" Target="../media/image40.png"/><Relationship Id="rId41" Type="http://schemas.openxmlformats.org/officeDocument/2006/relationships/image" Target="../media/image41.png"/><Relationship Id="rId42" Type="http://schemas.openxmlformats.org/officeDocument/2006/relationships/image" Target="../media/image42.png"/><Relationship Id="rId43" Type="http://schemas.openxmlformats.org/officeDocument/2006/relationships/image" Target="../media/image43.pn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hyperlink" Target="http://images.google.co.cr/imgres?imgurl=http://www.minco.com.ve/jpg/productos/procesados/carneHamburguesa.jpg&amp;imgrefurl=http://www.minco.com.ve/productosProcesados.html&amp;h=197&amp;w=300&amp;sz=10&amp;hl=es&amp;start=10&amp;tbnid=tGJGWpvKTwkn-M:&amp;tbnh=76&amp;tbnw=116&amp;prev=/images%3Fq%3Dhamburguesa%26gbv%3D2%26hl%3Des" TargetMode="External"/><Relationship Id="rId47" Type="http://schemas.openxmlformats.org/officeDocument/2006/relationships/image" Target="../media/image46.png"/><Relationship Id="rId48" Type="http://schemas.openxmlformats.org/officeDocument/2006/relationships/hyperlink" Target="http://images.google.co.cr/imgres?imgurl=http://www.fotos.org/galeria/data/548/medium/amarillo-mostaza.jpg&amp;imgrefurl=http://www.fotos.org/galeria/showphoto.php/photo/5779&amp;h=700&amp;w=541&amp;sz=23&amp;hl=es&amp;start=1&amp;tbnid=_xk3eRTBe2CmwM:&amp;tbnh=140&amp;tbnw=108&amp;prev=/images%3Fq%3Dmostaza%26gbv%3D2%26hl%3Des" TargetMode="External"/><Relationship Id="rId49" Type="http://schemas.openxmlformats.org/officeDocument/2006/relationships/image" Target="../media/image47.jpeg"/><Relationship Id="rId50" Type="http://schemas.openxmlformats.org/officeDocument/2006/relationships/hyperlink" Target="http://images.google.co.cr/imgres?imgurl=http://www.salood.com/wp-content/uploads/2007/11/salsa_tomate.jpg&amp;imgrefurl=http://www.salood.com/salsa-de-tomate-casera/en/&amp;h=356&amp;w=363&amp;sz=26&amp;hl=es&amp;start=2&amp;tbnid=tYaIxBWjmzSy1M:&amp;tbnh=119&amp;tbnw=121&amp;prev=/images%3Fq%3Dtomate%26gbv%3D2%26hl%3Des" TargetMode="External"/><Relationship Id="rId51" Type="http://schemas.openxmlformats.org/officeDocument/2006/relationships/image" Target="../media/image48.jpeg"/><Relationship Id="rId52" Type="http://schemas.openxmlformats.org/officeDocument/2006/relationships/hyperlink" Target="http://images.google.co.cr/imgres?imgurl=http://imagenes.hola.com/noticias-de-actualidad/2007/08/16/pepino_imagen.jpg&amp;imgrefurl=http://www.hola.com/noticias-de-actualidad/16-08-2007/24/&amp;h=275&amp;w=320&amp;sz=12&amp;hl=es&amp;start=11&amp;tbnid=bcmMIuzf2GzUWM:&amp;tbnh=101&amp;tbnw=118&amp;prev=/images%3Fq%3Dpepino%26gbv%3D2%26hl%3Des" TargetMode="External"/><Relationship Id="rId53" Type="http://schemas.openxmlformats.org/officeDocument/2006/relationships/image" Target="../media/image49.jpeg"/><Relationship Id="rId54" Type="http://schemas.openxmlformats.org/officeDocument/2006/relationships/image" Target="../media/image50.jpeg"/><Relationship Id="rId5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68 Grupo"/>
          <p:cNvGrpSpPr/>
          <p:nvPr/>
        </p:nvGrpSpPr>
        <p:grpSpPr>
          <a:xfrm>
            <a:off x="357120" y="500040"/>
            <a:ext cx="7000920" cy="5715000"/>
            <a:chOff x="357120" y="500040"/>
            <a:chExt cx="7000920" cy="5715000"/>
          </a:xfrm>
        </p:grpSpPr>
        <p:grpSp>
          <p:nvGrpSpPr>
            <p:cNvPr id="42" name="11 Grupo"/>
            <p:cNvGrpSpPr/>
            <p:nvPr/>
          </p:nvGrpSpPr>
          <p:grpSpPr>
            <a:xfrm>
              <a:off x="2044440" y="500040"/>
              <a:ext cx="3740040" cy="1485720"/>
              <a:chOff x="2044440" y="500040"/>
              <a:chExt cx="3740040" cy="1485720"/>
            </a:xfrm>
          </p:grpSpPr>
          <p:grpSp>
            <p:nvGrpSpPr>
              <p:cNvPr id="43" name="7 Flecha doblada"/>
              <p:cNvGrpSpPr/>
              <p:nvPr/>
            </p:nvGrpSpPr>
            <p:grpSpPr>
              <a:xfrm>
                <a:off x="3940920" y="1015920"/>
                <a:ext cx="1843560" cy="969840"/>
                <a:chOff x="3940920" y="1015920"/>
                <a:chExt cx="1843560" cy="969840"/>
              </a:xfrm>
            </p:grpSpPr>
            <p:pic>
              <p:nvPicPr>
                <p:cNvPr id="44" name="7 Flecha doblada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40920" y="1015920"/>
                  <a:ext cx="184356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" name=""/>
                <p:cNvSpPr/>
                <p:nvPr/>
              </p:nvSpPr>
              <p:spPr>
                <a:xfrm rot="5400000">
                  <a:off x="4430880" y="616680"/>
                  <a:ext cx="865800" cy="173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" name="5 Flecha doblada"/>
              <p:cNvGrpSpPr/>
              <p:nvPr/>
            </p:nvGrpSpPr>
            <p:grpSpPr>
              <a:xfrm>
                <a:off x="2044440" y="1015920"/>
                <a:ext cx="1866960" cy="969840"/>
                <a:chOff x="2044440" y="1015920"/>
                <a:chExt cx="1866960" cy="969840"/>
              </a:xfrm>
            </p:grpSpPr>
            <p:pic>
              <p:nvPicPr>
                <p:cNvPr id="47" name="5 Flecha doblada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44440" y="1015920"/>
                  <a:ext cx="186696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" name=""/>
                <p:cNvSpPr/>
                <p:nvPr/>
              </p:nvSpPr>
              <p:spPr>
                <a:xfrm rot="16200000">
                  <a:off x="2547720" y="608400"/>
                  <a:ext cx="865800" cy="174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" name="6 Rectángulo"/>
              <p:cNvGrpSpPr/>
              <p:nvPr/>
            </p:nvGrpSpPr>
            <p:grpSpPr>
              <a:xfrm>
                <a:off x="3545280" y="500040"/>
                <a:ext cx="821160" cy="844920"/>
                <a:chOff x="3545280" y="500040"/>
                <a:chExt cx="821160" cy="844920"/>
              </a:xfrm>
            </p:grpSpPr>
            <p:pic>
              <p:nvPicPr>
                <p:cNvPr id="50" name="6 Rectángulo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45280" y="500040"/>
                  <a:ext cx="821160" cy="84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" name=""/>
                <p:cNvSpPr/>
                <p:nvPr/>
              </p:nvSpPr>
              <p:spPr>
                <a:xfrm>
                  <a:off x="3605760" y="534240"/>
                  <a:ext cx="70488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" name="12 Grupo"/>
            <p:cNvGrpSpPr/>
            <p:nvPr/>
          </p:nvGrpSpPr>
          <p:grpSpPr>
            <a:xfrm>
              <a:off x="1132200" y="2094840"/>
              <a:ext cx="2006640" cy="1485720"/>
              <a:chOff x="1132200" y="2094840"/>
              <a:chExt cx="2006640" cy="1485720"/>
            </a:xfrm>
          </p:grpSpPr>
          <p:grpSp>
            <p:nvGrpSpPr>
              <p:cNvPr id="53" name="13 Flecha doblada"/>
              <p:cNvGrpSpPr/>
              <p:nvPr/>
            </p:nvGrpSpPr>
            <p:grpSpPr>
              <a:xfrm>
                <a:off x="2124000" y="2612880"/>
                <a:ext cx="1014840" cy="967680"/>
                <a:chOff x="2124000" y="2612880"/>
                <a:chExt cx="1014840" cy="967680"/>
              </a:xfrm>
            </p:grpSpPr>
            <p:pic>
              <p:nvPicPr>
                <p:cNvPr id="54" name="13 Flecha doblada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124000" y="2612880"/>
                  <a:ext cx="1014840" cy="96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5400000">
                  <a:off x="2198520" y="2626200"/>
                  <a:ext cx="86904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14 Flecha doblada"/>
              <p:cNvGrpSpPr/>
              <p:nvPr/>
            </p:nvGrpSpPr>
            <p:grpSpPr>
              <a:xfrm>
                <a:off x="1132200" y="2612880"/>
                <a:ext cx="1026360" cy="967680"/>
                <a:chOff x="1132200" y="2612880"/>
                <a:chExt cx="1026360" cy="967680"/>
              </a:xfrm>
            </p:grpSpPr>
            <p:pic>
              <p:nvPicPr>
                <p:cNvPr id="57" name="14 Flecha doblada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32200" y="2612880"/>
                  <a:ext cx="1026360" cy="96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 rot="16200000">
                  <a:off x="1212120" y="2621880"/>
                  <a:ext cx="869040" cy="91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15 Rectángulo"/>
              <p:cNvGrpSpPr/>
              <p:nvPr/>
            </p:nvGrpSpPr>
            <p:grpSpPr>
              <a:xfrm>
                <a:off x="1916280" y="2094840"/>
                <a:ext cx="478440" cy="842400"/>
                <a:chOff x="1916280" y="2094840"/>
                <a:chExt cx="478440" cy="842400"/>
              </a:xfrm>
            </p:grpSpPr>
            <p:pic>
              <p:nvPicPr>
                <p:cNvPr id="60" name="15 Rectángulo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916280" y="2094840"/>
                  <a:ext cx="478440" cy="8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" name=""/>
                <p:cNvSpPr/>
                <p:nvPr/>
              </p:nvSpPr>
              <p:spPr>
                <a:xfrm>
                  <a:off x="1973880" y="2126880"/>
                  <a:ext cx="369000" cy="74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" name="16 Grupo"/>
            <p:cNvGrpSpPr/>
            <p:nvPr/>
          </p:nvGrpSpPr>
          <p:grpSpPr>
            <a:xfrm>
              <a:off x="4553280" y="2094840"/>
              <a:ext cx="2052360" cy="1485720"/>
              <a:chOff x="4553280" y="2094840"/>
              <a:chExt cx="2052360" cy="1485720"/>
            </a:xfrm>
          </p:grpSpPr>
          <p:grpSp>
            <p:nvGrpSpPr>
              <p:cNvPr id="63" name="17 Flecha doblada"/>
              <p:cNvGrpSpPr/>
              <p:nvPr/>
            </p:nvGrpSpPr>
            <p:grpSpPr>
              <a:xfrm>
                <a:off x="5567760" y="2612880"/>
                <a:ext cx="1037880" cy="967680"/>
                <a:chOff x="5567760" y="2612880"/>
                <a:chExt cx="1037880" cy="967680"/>
              </a:xfrm>
            </p:grpSpPr>
            <p:pic>
              <p:nvPicPr>
                <p:cNvPr id="64" name="17 Flecha doblada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567760" y="2612880"/>
                  <a:ext cx="1037880" cy="96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5400000">
                  <a:off x="5652000" y="2615760"/>
                  <a:ext cx="869040" cy="92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18 Flecha doblada"/>
              <p:cNvGrpSpPr/>
              <p:nvPr/>
            </p:nvGrpSpPr>
            <p:grpSpPr>
              <a:xfrm>
                <a:off x="4553280" y="2612880"/>
                <a:ext cx="1043640" cy="967680"/>
                <a:chOff x="4553280" y="2612880"/>
                <a:chExt cx="1043640" cy="967680"/>
              </a:xfrm>
            </p:grpSpPr>
            <p:pic>
              <p:nvPicPr>
                <p:cNvPr id="67" name="18 Flecha doblada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553280" y="2612880"/>
                  <a:ext cx="1043640" cy="96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6200000">
                  <a:off x="4644360" y="2611440"/>
                  <a:ext cx="869040" cy="93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19 Rectángulo"/>
              <p:cNvGrpSpPr/>
              <p:nvPr/>
            </p:nvGrpSpPr>
            <p:grpSpPr>
              <a:xfrm>
                <a:off x="5354640" y="2094840"/>
                <a:ext cx="489960" cy="842400"/>
                <a:chOff x="5354640" y="2094840"/>
                <a:chExt cx="489960" cy="842400"/>
              </a:xfrm>
            </p:grpSpPr>
            <p:pic>
              <p:nvPicPr>
                <p:cNvPr id="70" name="19 Rectángulo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354640" y="2094840"/>
                  <a:ext cx="489960" cy="8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>
                  <a:off x="5413320" y="2126880"/>
                  <a:ext cx="377640" cy="74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" name="20 Grupo"/>
            <p:cNvGrpSpPr/>
            <p:nvPr/>
          </p:nvGrpSpPr>
          <p:grpSpPr>
            <a:xfrm>
              <a:off x="721800" y="3665880"/>
              <a:ext cx="1094400" cy="1485720"/>
              <a:chOff x="721800" y="3665880"/>
              <a:chExt cx="1094400" cy="1485720"/>
            </a:xfrm>
          </p:grpSpPr>
          <p:grpSp>
            <p:nvGrpSpPr>
              <p:cNvPr id="73" name="21 Flecha doblada"/>
              <p:cNvGrpSpPr/>
              <p:nvPr/>
            </p:nvGrpSpPr>
            <p:grpSpPr>
              <a:xfrm>
                <a:off x="1238760" y="4181760"/>
                <a:ext cx="577440" cy="969840"/>
                <a:chOff x="1238760" y="4181760"/>
                <a:chExt cx="577440" cy="969840"/>
              </a:xfrm>
            </p:grpSpPr>
            <p:pic>
              <p:nvPicPr>
                <p:cNvPr id="74" name="21 Flecha doblada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238760" y="4181760"/>
                  <a:ext cx="57744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" name=""/>
                <p:cNvSpPr/>
                <p:nvPr/>
              </p:nvSpPr>
              <p:spPr>
                <a:xfrm rot="5400000">
                  <a:off x="1097640" y="4415040"/>
                  <a:ext cx="865800" cy="47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22 Flecha doblada"/>
              <p:cNvGrpSpPr/>
              <p:nvPr/>
            </p:nvGrpSpPr>
            <p:grpSpPr>
              <a:xfrm>
                <a:off x="721800" y="4181760"/>
                <a:ext cx="582840" cy="969840"/>
                <a:chOff x="721800" y="4181760"/>
                <a:chExt cx="582840" cy="969840"/>
              </a:xfrm>
            </p:grpSpPr>
            <p:pic>
              <p:nvPicPr>
                <p:cNvPr id="77" name="22 Flecha doblada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21800" y="4181760"/>
                  <a:ext cx="58284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" name=""/>
                <p:cNvSpPr/>
                <p:nvPr/>
              </p:nvSpPr>
              <p:spPr>
                <a:xfrm rot="16200000">
                  <a:off x="584280" y="4412520"/>
                  <a:ext cx="865800" cy="47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" name="23 Rectángulo"/>
              <p:cNvGrpSpPr/>
              <p:nvPr/>
            </p:nvGrpSpPr>
            <p:grpSpPr>
              <a:xfrm>
                <a:off x="1134360" y="3665880"/>
                <a:ext cx="297000" cy="844920"/>
                <a:chOff x="1134360" y="3665880"/>
                <a:chExt cx="297000" cy="844920"/>
              </a:xfrm>
            </p:grpSpPr>
            <p:pic>
              <p:nvPicPr>
                <p:cNvPr id="80" name="23 Rectángulo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134360" y="3665880"/>
                  <a:ext cx="297000" cy="84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>
                  <a:off x="1188000" y="3701880"/>
                  <a:ext cx="19224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" name="24 Grupo"/>
            <p:cNvGrpSpPr/>
            <p:nvPr/>
          </p:nvGrpSpPr>
          <p:grpSpPr>
            <a:xfrm>
              <a:off x="2409480" y="3690000"/>
              <a:ext cx="1094400" cy="1485720"/>
              <a:chOff x="2409480" y="3690000"/>
              <a:chExt cx="1094400" cy="1485720"/>
            </a:xfrm>
          </p:grpSpPr>
          <p:grpSp>
            <p:nvGrpSpPr>
              <p:cNvPr id="83" name="25 Flecha doblada"/>
              <p:cNvGrpSpPr/>
              <p:nvPr/>
            </p:nvGrpSpPr>
            <p:grpSpPr>
              <a:xfrm>
                <a:off x="2926440" y="4205880"/>
                <a:ext cx="577440" cy="969840"/>
                <a:chOff x="2926440" y="4205880"/>
                <a:chExt cx="577440" cy="969840"/>
              </a:xfrm>
            </p:grpSpPr>
            <p:pic>
              <p:nvPicPr>
                <p:cNvPr id="84" name="25 Flecha doblada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926440" y="4205880"/>
                  <a:ext cx="57744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"/>
                <p:cNvSpPr/>
                <p:nvPr/>
              </p:nvSpPr>
              <p:spPr>
                <a:xfrm rot="5400000">
                  <a:off x="2784240" y="4438800"/>
                  <a:ext cx="865800" cy="47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26 Flecha doblada"/>
              <p:cNvGrpSpPr/>
              <p:nvPr/>
            </p:nvGrpSpPr>
            <p:grpSpPr>
              <a:xfrm>
                <a:off x="2409480" y="4205880"/>
                <a:ext cx="582840" cy="969840"/>
                <a:chOff x="2409480" y="4205880"/>
                <a:chExt cx="582840" cy="969840"/>
              </a:xfrm>
            </p:grpSpPr>
            <p:pic>
              <p:nvPicPr>
                <p:cNvPr id="87" name="26 Flecha doblada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409480" y="4205880"/>
                  <a:ext cx="58284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6200000">
                  <a:off x="2270880" y="4436280"/>
                  <a:ext cx="865800" cy="47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27 Rectángulo"/>
              <p:cNvGrpSpPr/>
              <p:nvPr/>
            </p:nvGrpSpPr>
            <p:grpSpPr>
              <a:xfrm>
                <a:off x="2822040" y="3690000"/>
                <a:ext cx="291240" cy="844920"/>
                <a:chOff x="2822040" y="3690000"/>
                <a:chExt cx="291240" cy="844920"/>
              </a:xfrm>
            </p:grpSpPr>
            <p:pic>
              <p:nvPicPr>
                <p:cNvPr id="90" name="27 Rectángulo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822040" y="3690000"/>
                  <a:ext cx="291240" cy="84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>
                  <a:off x="2874600" y="3725640"/>
                  <a:ext cx="19188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28 Grupo"/>
            <p:cNvGrpSpPr/>
            <p:nvPr/>
          </p:nvGrpSpPr>
          <p:grpSpPr>
            <a:xfrm>
              <a:off x="4142520" y="3690000"/>
              <a:ext cx="1094400" cy="1485720"/>
              <a:chOff x="4142520" y="3690000"/>
              <a:chExt cx="1094400" cy="1485720"/>
            </a:xfrm>
          </p:grpSpPr>
          <p:grpSp>
            <p:nvGrpSpPr>
              <p:cNvPr id="93" name="29 Flecha doblada"/>
              <p:cNvGrpSpPr/>
              <p:nvPr/>
            </p:nvGrpSpPr>
            <p:grpSpPr>
              <a:xfrm>
                <a:off x="4656600" y="4205880"/>
                <a:ext cx="580320" cy="969840"/>
                <a:chOff x="4656600" y="4205880"/>
                <a:chExt cx="580320" cy="969840"/>
              </a:xfrm>
            </p:grpSpPr>
            <p:pic>
              <p:nvPicPr>
                <p:cNvPr id="94" name="29 Flecha doblada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4656600" y="4205880"/>
                  <a:ext cx="58032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5400000">
                  <a:off x="4517280" y="4437720"/>
                  <a:ext cx="86580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30 Flecha doblada"/>
              <p:cNvGrpSpPr/>
              <p:nvPr/>
            </p:nvGrpSpPr>
            <p:grpSpPr>
              <a:xfrm>
                <a:off x="4142520" y="4205880"/>
                <a:ext cx="580320" cy="969840"/>
                <a:chOff x="4142520" y="4205880"/>
                <a:chExt cx="580320" cy="969840"/>
              </a:xfrm>
            </p:grpSpPr>
            <p:pic>
              <p:nvPicPr>
                <p:cNvPr id="97" name="30 Flecha doblada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142520" y="4205880"/>
                  <a:ext cx="58032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6200000">
                  <a:off x="4002120" y="4435200"/>
                  <a:ext cx="865800" cy="47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31 Rectángulo"/>
              <p:cNvGrpSpPr/>
              <p:nvPr/>
            </p:nvGrpSpPr>
            <p:grpSpPr>
              <a:xfrm>
                <a:off x="4551480" y="3690000"/>
                <a:ext cx="298440" cy="844920"/>
                <a:chOff x="4551480" y="3690000"/>
                <a:chExt cx="298440" cy="844920"/>
              </a:xfrm>
            </p:grpSpPr>
            <p:pic>
              <p:nvPicPr>
                <p:cNvPr id="100" name="31 Rectángulo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4551480" y="3690000"/>
                  <a:ext cx="298440" cy="84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" name=""/>
                <p:cNvSpPr/>
                <p:nvPr/>
              </p:nvSpPr>
              <p:spPr>
                <a:xfrm>
                  <a:off x="4605840" y="3725640"/>
                  <a:ext cx="19296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" name="32 Grupo"/>
            <p:cNvGrpSpPr/>
            <p:nvPr/>
          </p:nvGrpSpPr>
          <p:grpSpPr>
            <a:xfrm>
              <a:off x="5921640" y="3690000"/>
              <a:ext cx="1094400" cy="1485720"/>
              <a:chOff x="5921640" y="3690000"/>
              <a:chExt cx="1094400" cy="1485720"/>
            </a:xfrm>
          </p:grpSpPr>
          <p:grpSp>
            <p:nvGrpSpPr>
              <p:cNvPr id="103" name="33 Flecha doblada"/>
              <p:cNvGrpSpPr/>
              <p:nvPr/>
            </p:nvGrpSpPr>
            <p:grpSpPr>
              <a:xfrm>
                <a:off x="6438600" y="4205880"/>
                <a:ext cx="577440" cy="969840"/>
                <a:chOff x="6438600" y="4205880"/>
                <a:chExt cx="577440" cy="969840"/>
              </a:xfrm>
            </p:grpSpPr>
            <p:pic>
              <p:nvPicPr>
                <p:cNvPr id="104" name="33 Flecha doblada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6438600" y="4205880"/>
                  <a:ext cx="57744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5400000">
                  <a:off x="6296760" y="4438800"/>
                  <a:ext cx="865800" cy="47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34 Flecha doblada"/>
              <p:cNvGrpSpPr/>
              <p:nvPr/>
            </p:nvGrpSpPr>
            <p:grpSpPr>
              <a:xfrm>
                <a:off x="5921640" y="4205880"/>
                <a:ext cx="582840" cy="969840"/>
                <a:chOff x="5921640" y="4205880"/>
                <a:chExt cx="582840" cy="969840"/>
              </a:xfrm>
            </p:grpSpPr>
            <p:pic>
              <p:nvPicPr>
                <p:cNvPr id="107" name="34 Flecha doblada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5921640" y="4205880"/>
                  <a:ext cx="58284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"/>
                <p:cNvSpPr/>
                <p:nvPr/>
              </p:nvSpPr>
              <p:spPr>
                <a:xfrm rot="16200000">
                  <a:off x="5783760" y="4436280"/>
                  <a:ext cx="865800" cy="47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35 Rectángulo"/>
              <p:cNvGrpSpPr/>
              <p:nvPr/>
            </p:nvGrpSpPr>
            <p:grpSpPr>
              <a:xfrm>
                <a:off x="6334200" y="3690000"/>
                <a:ext cx="297000" cy="844920"/>
                <a:chOff x="6334200" y="3690000"/>
                <a:chExt cx="297000" cy="844920"/>
              </a:xfrm>
            </p:grpSpPr>
            <p:pic>
              <p:nvPicPr>
                <p:cNvPr id="110" name="35 Rectángulo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6334200" y="3690000"/>
                  <a:ext cx="297000" cy="84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" name=""/>
                <p:cNvSpPr/>
                <p:nvPr/>
              </p:nvSpPr>
              <p:spPr>
                <a:xfrm>
                  <a:off x="6387120" y="3725640"/>
                  <a:ext cx="19224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" name="36 Grupo"/>
            <p:cNvGrpSpPr/>
            <p:nvPr/>
          </p:nvGrpSpPr>
          <p:grpSpPr>
            <a:xfrm>
              <a:off x="357120" y="5218200"/>
              <a:ext cx="866520" cy="996840"/>
              <a:chOff x="357120" y="5218200"/>
              <a:chExt cx="866520" cy="996840"/>
            </a:xfrm>
          </p:grpSpPr>
          <p:grpSp>
            <p:nvGrpSpPr>
              <p:cNvPr id="113" name="37 Flecha doblada"/>
              <p:cNvGrpSpPr/>
              <p:nvPr/>
            </p:nvGrpSpPr>
            <p:grpSpPr>
              <a:xfrm>
                <a:off x="755280" y="5552280"/>
                <a:ext cx="468360" cy="662760"/>
                <a:chOff x="755280" y="5552280"/>
                <a:chExt cx="468360" cy="662760"/>
              </a:xfrm>
            </p:grpSpPr>
            <p:pic>
              <p:nvPicPr>
                <p:cNvPr id="114" name="37 Flecha doblada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55280" y="5552280"/>
                  <a:ext cx="4683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" name=""/>
                <p:cNvSpPr/>
                <p:nvPr/>
              </p:nvSpPr>
              <p:spPr>
                <a:xfrm rot="5400000">
                  <a:off x="709920" y="5682960"/>
                  <a:ext cx="560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38 Flecha doblada"/>
              <p:cNvGrpSpPr/>
              <p:nvPr/>
            </p:nvGrpSpPr>
            <p:grpSpPr>
              <a:xfrm>
                <a:off x="357120" y="5552280"/>
                <a:ext cx="468360" cy="662760"/>
                <a:chOff x="357120" y="5552280"/>
                <a:chExt cx="468360" cy="662760"/>
              </a:xfrm>
            </p:grpSpPr>
            <p:pic>
              <p:nvPicPr>
                <p:cNvPr id="117" name="38 Flecha doblada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57120" y="5552280"/>
                  <a:ext cx="4683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"/>
                <p:cNvSpPr/>
                <p:nvPr/>
              </p:nvSpPr>
              <p:spPr>
                <a:xfrm rot="16200000">
                  <a:off x="312840" y="5681160"/>
                  <a:ext cx="56088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39 Rectángulo"/>
              <p:cNvGrpSpPr/>
              <p:nvPr/>
            </p:nvGrpSpPr>
            <p:grpSpPr>
              <a:xfrm>
                <a:off x="669240" y="5218200"/>
                <a:ext cx="252720" cy="580680"/>
                <a:chOff x="669240" y="5218200"/>
                <a:chExt cx="252720" cy="580680"/>
              </a:xfrm>
            </p:grpSpPr>
            <p:pic>
              <p:nvPicPr>
                <p:cNvPr id="120" name="39 Rectángulo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669240" y="5218200"/>
                  <a:ext cx="252720" cy="58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" name=""/>
                <p:cNvSpPr/>
                <p:nvPr/>
              </p:nvSpPr>
              <p:spPr>
                <a:xfrm>
                  <a:off x="725040" y="5250960"/>
                  <a:ext cx="148680" cy="4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" name="40 Grupo"/>
            <p:cNvGrpSpPr/>
            <p:nvPr/>
          </p:nvGrpSpPr>
          <p:grpSpPr>
            <a:xfrm>
              <a:off x="1223640" y="5218200"/>
              <a:ext cx="866520" cy="996840"/>
              <a:chOff x="1223640" y="5218200"/>
              <a:chExt cx="866520" cy="996840"/>
            </a:xfrm>
          </p:grpSpPr>
          <p:grpSp>
            <p:nvGrpSpPr>
              <p:cNvPr id="123" name="41 Flecha doblada"/>
              <p:cNvGrpSpPr/>
              <p:nvPr/>
            </p:nvGrpSpPr>
            <p:grpSpPr>
              <a:xfrm>
                <a:off x="1621800" y="5552280"/>
                <a:ext cx="468360" cy="662760"/>
                <a:chOff x="1621800" y="5552280"/>
                <a:chExt cx="468360" cy="662760"/>
              </a:xfrm>
            </p:grpSpPr>
            <p:pic>
              <p:nvPicPr>
                <p:cNvPr id="124" name="41 Flecha doblada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1621800" y="5552280"/>
                  <a:ext cx="4683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" name=""/>
                <p:cNvSpPr/>
                <p:nvPr/>
              </p:nvSpPr>
              <p:spPr>
                <a:xfrm rot="5400000">
                  <a:off x="1577160" y="5682960"/>
                  <a:ext cx="560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42 Flecha doblada"/>
              <p:cNvGrpSpPr/>
              <p:nvPr/>
            </p:nvGrpSpPr>
            <p:grpSpPr>
              <a:xfrm>
                <a:off x="1223640" y="5552280"/>
                <a:ext cx="468360" cy="662760"/>
                <a:chOff x="1223640" y="5552280"/>
                <a:chExt cx="468360" cy="662760"/>
              </a:xfrm>
            </p:grpSpPr>
            <p:pic>
              <p:nvPicPr>
                <p:cNvPr id="127" name="42 Flecha doblada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1223640" y="5552280"/>
                  <a:ext cx="4683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" name=""/>
                <p:cNvSpPr/>
                <p:nvPr/>
              </p:nvSpPr>
              <p:spPr>
                <a:xfrm rot="16200000">
                  <a:off x="1180080" y="5681160"/>
                  <a:ext cx="56088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43 Rectángulo"/>
              <p:cNvGrpSpPr/>
              <p:nvPr/>
            </p:nvGrpSpPr>
            <p:grpSpPr>
              <a:xfrm>
                <a:off x="1541160" y="5218200"/>
                <a:ext cx="247680" cy="580680"/>
                <a:chOff x="1541160" y="5218200"/>
                <a:chExt cx="247680" cy="580680"/>
              </a:xfrm>
            </p:grpSpPr>
            <p:pic>
              <p:nvPicPr>
                <p:cNvPr id="130" name="43 Rectángulo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1541160" y="5218200"/>
                  <a:ext cx="247680" cy="58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"/>
                <p:cNvSpPr/>
                <p:nvPr/>
              </p:nvSpPr>
              <p:spPr>
                <a:xfrm>
                  <a:off x="1592640" y="5250960"/>
                  <a:ext cx="149040" cy="4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44 Grupo"/>
            <p:cNvGrpSpPr/>
            <p:nvPr/>
          </p:nvGrpSpPr>
          <p:grpSpPr>
            <a:xfrm>
              <a:off x="2090160" y="5218200"/>
              <a:ext cx="866520" cy="996840"/>
              <a:chOff x="2090160" y="5218200"/>
              <a:chExt cx="866520" cy="996840"/>
            </a:xfrm>
          </p:grpSpPr>
          <p:grpSp>
            <p:nvGrpSpPr>
              <p:cNvPr id="133" name="45 Flecha doblada"/>
              <p:cNvGrpSpPr/>
              <p:nvPr/>
            </p:nvGrpSpPr>
            <p:grpSpPr>
              <a:xfrm>
                <a:off x="2488320" y="5552280"/>
                <a:ext cx="468360" cy="662760"/>
                <a:chOff x="2488320" y="5552280"/>
                <a:chExt cx="468360" cy="662760"/>
              </a:xfrm>
            </p:grpSpPr>
            <p:pic>
              <p:nvPicPr>
                <p:cNvPr id="134" name="45 Flecha doblada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488320" y="5552280"/>
                  <a:ext cx="4683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" name=""/>
                <p:cNvSpPr/>
                <p:nvPr/>
              </p:nvSpPr>
              <p:spPr>
                <a:xfrm rot="5400000">
                  <a:off x="2444400" y="5682960"/>
                  <a:ext cx="560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46 Flecha doblada"/>
              <p:cNvGrpSpPr/>
              <p:nvPr/>
            </p:nvGrpSpPr>
            <p:grpSpPr>
              <a:xfrm>
                <a:off x="2090160" y="5552280"/>
                <a:ext cx="473760" cy="662760"/>
                <a:chOff x="2090160" y="5552280"/>
                <a:chExt cx="473760" cy="662760"/>
              </a:xfrm>
            </p:grpSpPr>
            <p:pic>
              <p:nvPicPr>
                <p:cNvPr id="137" name="46 Flecha doblada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2090160" y="5552280"/>
                  <a:ext cx="4737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 rot="16200000">
                  <a:off x="2047680" y="5681160"/>
                  <a:ext cx="56088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47 Rectángulo"/>
              <p:cNvGrpSpPr/>
              <p:nvPr/>
            </p:nvGrpSpPr>
            <p:grpSpPr>
              <a:xfrm>
                <a:off x="2407680" y="5218200"/>
                <a:ext cx="247680" cy="580680"/>
                <a:chOff x="2407680" y="5218200"/>
                <a:chExt cx="247680" cy="580680"/>
              </a:xfrm>
            </p:grpSpPr>
            <p:pic>
              <p:nvPicPr>
                <p:cNvPr id="140" name="47 Rectángulo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2407680" y="5218200"/>
                  <a:ext cx="247680" cy="58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" name=""/>
                <p:cNvSpPr/>
                <p:nvPr/>
              </p:nvSpPr>
              <p:spPr>
                <a:xfrm>
                  <a:off x="2459880" y="5250960"/>
                  <a:ext cx="149040" cy="4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" name="48 Grupo"/>
            <p:cNvGrpSpPr/>
            <p:nvPr/>
          </p:nvGrpSpPr>
          <p:grpSpPr>
            <a:xfrm>
              <a:off x="2956680" y="5218200"/>
              <a:ext cx="866520" cy="996840"/>
              <a:chOff x="2956680" y="5218200"/>
              <a:chExt cx="866520" cy="996840"/>
            </a:xfrm>
          </p:grpSpPr>
          <p:grpSp>
            <p:nvGrpSpPr>
              <p:cNvPr id="143" name="49 Flecha doblada"/>
              <p:cNvGrpSpPr/>
              <p:nvPr/>
            </p:nvGrpSpPr>
            <p:grpSpPr>
              <a:xfrm>
                <a:off x="3354840" y="5552280"/>
                <a:ext cx="468360" cy="662760"/>
                <a:chOff x="3354840" y="5552280"/>
                <a:chExt cx="468360" cy="662760"/>
              </a:xfrm>
            </p:grpSpPr>
            <p:pic>
              <p:nvPicPr>
                <p:cNvPr id="144" name="49 Flecha doblada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3354840" y="5552280"/>
                  <a:ext cx="4683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5400000">
                  <a:off x="3312000" y="5682960"/>
                  <a:ext cx="560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50 Flecha doblada"/>
              <p:cNvGrpSpPr/>
              <p:nvPr/>
            </p:nvGrpSpPr>
            <p:grpSpPr>
              <a:xfrm>
                <a:off x="2956680" y="5552280"/>
                <a:ext cx="473760" cy="662760"/>
                <a:chOff x="2956680" y="5552280"/>
                <a:chExt cx="473760" cy="662760"/>
              </a:xfrm>
            </p:grpSpPr>
            <p:pic>
              <p:nvPicPr>
                <p:cNvPr id="147" name="50 Flecha doblada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2956680" y="5552280"/>
                  <a:ext cx="4737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"/>
                <p:cNvSpPr/>
                <p:nvPr/>
              </p:nvSpPr>
              <p:spPr>
                <a:xfrm rot="16200000">
                  <a:off x="2914920" y="5681160"/>
                  <a:ext cx="56088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51 Rectángulo"/>
              <p:cNvGrpSpPr/>
              <p:nvPr/>
            </p:nvGrpSpPr>
            <p:grpSpPr>
              <a:xfrm>
                <a:off x="3274200" y="5218200"/>
                <a:ext cx="252720" cy="580680"/>
                <a:chOff x="3274200" y="5218200"/>
                <a:chExt cx="252720" cy="580680"/>
              </a:xfrm>
            </p:grpSpPr>
            <p:pic>
              <p:nvPicPr>
                <p:cNvPr id="150" name="51 Rectángulo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3274200" y="5218200"/>
                  <a:ext cx="252720" cy="58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3327120" y="5250960"/>
                  <a:ext cx="148680" cy="4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52 Grupo"/>
            <p:cNvGrpSpPr/>
            <p:nvPr/>
          </p:nvGrpSpPr>
          <p:grpSpPr>
            <a:xfrm>
              <a:off x="3823560" y="5218200"/>
              <a:ext cx="866520" cy="996840"/>
              <a:chOff x="3823560" y="5218200"/>
              <a:chExt cx="866520" cy="996840"/>
            </a:xfrm>
          </p:grpSpPr>
          <p:grpSp>
            <p:nvGrpSpPr>
              <p:cNvPr id="153" name="53 Flecha doblada"/>
              <p:cNvGrpSpPr/>
              <p:nvPr/>
            </p:nvGrpSpPr>
            <p:grpSpPr>
              <a:xfrm>
                <a:off x="4221720" y="5552280"/>
                <a:ext cx="468360" cy="662760"/>
                <a:chOff x="4221720" y="5552280"/>
                <a:chExt cx="468360" cy="662760"/>
              </a:xfrm>
            </p:grpSpPr>
            <p:pic>
              <p:nvPicPr>
                <p:cNvPr id="154" name="53 Flecha doblada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4221720" y="5552280"/>
                  <a:ext cx="4683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5400000">
                  <a:off x="4179600" y="5682960"/>
                  <a:ext cx="560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54 Flecha doblada"/>
              <p:cNvGrpSpPr/>
              <p:nvPr/>
            </p:nvGrpSpPr>
            <p:grpSpPr>
              <a:xfrm>
                <a:off x="3823560" y="5552280"/>
                <a:ext cx="473760" cy="662760"/>
                <a:chOff x="3823560" y="5552280"/>
                <a:chExt cx="473760" cy="662760"/>
              </a:xfrm>
            </p:grpSpPr>
            <p:pic>
              <p:nvPicPr>
                <p:cNvPr id="157" name="54 Flecha doblada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3823560" y="5552280"/>
                  <a:ext cx="4737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6200000">
                  <a:off x="3782520" y="5681160"/>
                  <a:ext cx="56088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55 Rectángulo"/>
              <p:cNvGrpSpPr/>
              <p:nvPr/>
            </p:nvGrpSpPr>
            <p:grpSpPr>
              <a:xfrm>
                <a:off x="4141080" y="5218200"/>
                <a:ext cx="252720" cy="580680"/>
                <a:chOff x="4141080" y="5218200"/>
                <a:chExt cx="252720" cy="580680"/>
              </a:xfrm>
            </p:grpSpPr>
            <p:pic>
              <p:nvPicPr>
                <p:cNvPr id="160" name="55 Rectángulo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4141080" y="5218200"/>
                  <a:ext cx="252720" cy="58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>
                  <a:off x="4194720" y="5250960"/>
                  <a:ext cx="148680" cy="4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56 Grupo"/>
            <p:cNvGrpSpPr/>
            <p:nvPr/>
          </p:nvGrpSpPr>
          <p:grpSpPr>
            <a:xfrm>
              <a:off x="4690080" y="5218200"/>
              <a:ext cx="866520" cy="996840"/>
              <a:chOff x="4690080" y="5218200"/>
              <a:chExt cx="866520" cy="996840"/>
            </a:xfrm>
          </p:grpSpPr>
          <p:grpSp>
            <p:nvGrpSpPr>
              <p:cNvPr id="163" name="57 Flecha doblada"/>
              <p:cNvGrpSpPr/>
              <p:nvPr/>
            </p:nvGrpSpPr>
            <p:grpSpPr>
              <a:xfrm>
                <a:off x="5091120" y="5552280"/>
                <a:ext cx="465480" cy="662760"/>
                <a:chOff x="5091120" y="5552280"/>
                <a:chExt cx="465480" cy="662760"/>
              </a:xfrm>
            </p:grpSpPr>
            <p:pic>
              <p:nvPicPr>
                <p:cNvPr id="164" name="57 Flecha doblada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5091120" y="5552280"/>
                  <a:ext cx="46548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5" name=""/>
                <p:cNvSpPr/>
                <p:nvPr/>
              </p:nvSpPr>
              <p:spPr>
                <a:xfrm rot="5400000">
                  <a:off x="5043240" y="5684400"/>
                  <a:ext cx="56088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58 Flecha doblada"/>
              <p:cNvGrpSpPr/>
              <p:nvPr/>
            </p:nvGrpSpPr>
            <p:grpSpPr>
              <a:xfrm>
                <a:off x="4690080" y="5552280"/>
                <a:ext cx="470880" cy="662760"/>
                <a:chOff x="4690080" y="5552280"/>
                <a:chExt cx="470880" cy="662760"/>
              </a:xfrm>
            </p:grpSpPr>
            <p:pic>
              <p:nvPicPr>
                <p:cNvPr id="167" name="58 Flecha doblada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4690080" y="5552280"/>
                  <a:ext cx="47088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8" name=""/>
                <p:cNvSpPr/>
                <p:nvPr/>
              </p:nvSpPr>
              <p:spPr>
                <a:xfrm rot="16200000">
                  <a:off x="4648680" y="5682600"/>
                  <a:ext cx="56088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59 Rectángulo"/>
              <p:cNvGrpSpPr/>
              <p:nvPr/>
            </p:nvGrpSpPr>
            <p:grpSpPr>
              <a:xfrm>
                <a:off x="5005440" y="5218200"/>
                <a:ext cx="251280" cy="580680"/>
                <a:chOff x="5005440" y="5218200"/>
                <a:chExt cx="251280" cy="580680"/>
              </a:xfrm>
            </p:grpSpPr>
            <p:pic>
              <p:nvPicPr>
                <p:cNvPr id="170" name="59 Rectángulo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5005440" y="5218200"/>
                  <a:ext cx="251280" cy="58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"/>
                <p:cNvSpPr/>
                <p:nvPr/>
              </p:nvSpPr>
              <p:spPr>
                <a:xfrm>
                  <a:off x="5059800" y="5250960"/>
                  <a:ext cx="147960" cy="4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60 Grupo"/>
            <p:cNvGrpSpPr/>
            <p:nvPr/>
          </p:nvGrpSpPr>
          <p:grpSpPr>
            <a:xfrm>
              <a:off x="5625000" y="5218200"/>
              <a:ext cx="866520" cy="996840"/>
              <a:chOff x="5625000" y="5218200"/>
              <a:chExt cx="866520" cy="996840"/>
            </a:xfrm>
          </p:grpSpPr>
          <p:grpSp>
            <p:nvGrpSpPr>
              <p:cNvPr id="173" name="61 Flecha doblada"/>
              <p:cNvGrpSpPr/>
              <p:nvPr/>
            </p:nvGrpSpPr>
            <p:grpSpPr>
              <a:xfrm>
                <a:off x="6023160" y="5552280"/>
                <a:ext cx="468360" cy="662760"/>
                <a:chOff x="6023160" y="5552280"/>
                <a:chExt cx="468360" cy="662760"/>
              </a:xfrm>
            </p:grpSpPr>
            <p:pic>
              <p:nvPicPr>
                <p:cNvPr id="174" name="61 Flecha doblada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6023160" y="5552280"/>
                  <a:ext cx="4683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5" name=""/>
                <p:cNvSpPr/>
                <p:nvPr/>
              </p:nvSpPr>
              <p:spPr>
                <a:xfrm rot="5400000">
                  <a:off x="5978520" y="5682960"/>
                  <a:ext cx="560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62 Flecha doblada"/>
              <p:cNvGrpSpPr/>
              <p:nvPr/>
            </p:nvGrpSpPr>
            <p:grpSpPr>
              <a:xfrm>
                <a:off x="5625000" y="5552280"/>
                <a:ext cx="468360" cy="662760"/>
                <a:chOff x="5625000" y="5552280"/>
                <a:chExt cx="468360" cy="662760"/>
              </a:xfrm>
            </p:grpSpPr>
            <p:pic>
              <p:nvPicPr>
                <p:cNvPr id="177" name="62 Flecha doblada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5625000" y="5552280"/>
                  <a:ext cx="4683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" name=""/>
                <p:cNvSpPr/>
                <p:nvPr/>
              </p:nvSpPr>
              <p:spPr>
                <a:xfrm rot="16200000">
                  <a:off x="5581440" y="5681160"/>
                  <a:ext cx="56088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63 Rectángulo"/>
              <p:cNvGrpSpPr/>
              <p:nvPr/>
            </p:nvGrpSpPr>
            <p:grpSpPr>
              <a:xfrm>
                <a:off x="5942520" y="5218200"/>
                <a:ext cx="247680" cy="580680"/>
                <a:chOff x="5942520" y="5218200"/>
                <a:chExt cx="247680" cy="580680"/>
              </a:xfrm>
            </p:grpSpPr>
            <p:pic>
              <p:nvPicPr>
                <p:cNvPr id="180" name="63 Rectángulo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5942520" y="5218200"/>
                  <a:ext cx="247680" cy="58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>
                  <a:off x="5994000" y="5250960"/>
                  <a:ext cx="149040" cy="4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64 Grupo"/>
            <p:cNvGrpSpPr/>
            <p:nvPr/>
          </p:nvGrpSpPr>
          <p:grpSpPr>
            <a:xfrm>
              <a:off x="6491520" y="5218200"/>
              <a:ext cx="866520" cy="996840"/>
              <a:chOff x="6491520" y="5218200"/>
              <a:chExt cx="866520" cy="996840"/>
            </a:xfrm>
          </p:grpSpPr>
          <p:grpSp>
            <p:nvGrpSpPr>
              <p:cNvPr id="183" name="65 Flecha doblada"/>
              <p:cNvGrpSpPr/>
              <p:nvPr/>
            </p:nvGrpSpPr>
            <p:grpSpPr>
              <a:xfrm>
                <a:off x="6889680" y="5552280"/>
                <a:ext cx="468360" cy="662760"/>
                <a:chOff x="6889680" y="5552280"/>
                <a:chExt cx="468360" cy="662760"/>
              </a:xfrm>
            </p:grpSpPr>
            <p:pic>
              <p:nvPicPr>
                <p:cNvPr id="184" name="65 Flecha doblada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6889680" y="5552280"/>
                  <a:ext cx="4683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"/>
                <p:cNvSpPr/>
                <p:nvPr/>
              </p:nvSpPr>
              <p:spPr>
                <a:xfrm rot="5400000">
                  <a:off x="6845760" y="5682960"/>
                  <a:ext cx="5608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66 Flecha doblada"/>
              <p:cNvGrpSpPr/>
              <p:nvPr/>
            </p:nvGrpSpPr>
            <p:grpSpPr>
              <a:xfrm>
                <a:off x="6491520" y="5552280"/>
                <a:ext cx="473760" cy="662760"/>
                <a:chOff x="6491520" y="5552280"/>
                <a:chExt cx="473760" cy="662760"/>
              </a:xfrm>
            </p:grpSpPr>
            <p:pic>
              <p:nvPicPr>
                <p:cNvPr id="187" name="66 Flecha doblada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6491520" y="5552280"/>
                  <a:ext cx="473760" cy="66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6200000">
                  <a:off x="6448680" y="5681160"/>
                  <a:ext cx="56088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67 Rectángulo"/>
              <p:cNvGrpSpPr/>
              <p:nvPr/>
            </p:nvGrpSpPr>
            <p:grpSpPr>
              <a:xfrm>
                <a:off x="6809040" y="5218200"/>
                <a:ext cx="247680" cy="580680"/>
                <a:chOff x="6809040" y="5218200"/>
                <a:chExt cx="247680" cy="580680"/>
              </a:xfrm>
            </p:grpSpPr>
            <p:pic>
              <p:nvPicPr>
                <p:cNvPr id="190" name="67 Rectángulo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6809040" y="5218200"/>
                  <a:ext cx="247680" cy="58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>
                  <a:off x="6861240" y="5250960"/>
                  <a:ext cx="149040" cy="4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92" name="Picture 2" descr="http://tbn0.google.com/images?q=tbn:tGJGWpvKTwkn-M:http://www.minco.com.ve/jpg/productos/procesados/carneHamburguesa.jpg">
            <a:hlinkClick r:id="rId46"/>
          </p:cNvPr>
          <p:cNvPicPr/>
          <p:nvPr/>
        </p:nvPicPr>
        <p:blipFill>
          <a:blip r:embed="rId47"/>
          <a:stretch/>
        </p:blipFill>
        <p:spPr>
          <a:xfrm>
            <a:off x="3357720" y="500040"/>
            <a:ext cx="1104840" cy="723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http://tbn0.google.com/images?q=tbn:_xk3eRTBe2CmwM:http://www.fotos.org/galeria/data/548/medium/amarillo-mostaza.jpg">
            <a:hlinkClick r:id="rId48"/>
          </p:cNvPr>
          <p:cNvPicPr/>
          <p:nvPr/>
        </p:nvPicPr>
        <p:blipFill>
          <a:blip r:embed="rId49"/>
          <a:stretch/>
        </p:blipFill>
        <p:spPr>
          <a:xfrm>
            <a:off x="7929720" y="785880"/>
            <a:ext cx="1000080" cy="1295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http://tbn0.google.com/images?q=tbn:tYaIxBWjmzSy1M:http://www.salood.com/wp-content/uploads/2007/11/salsa_tomate.jpg">
            <a:hlinkClick r:id="rId50"/>
          </p:cNvPr>
          <p:cNvPicPr/>
          <p:nvPr/>
        </p:nvPicPr>
        <p:blipFill>
          <a:blip r:embed="rId51"/>
          <a:stretch/>
        </p:blipFill>
        <p:spPr>
          <a:xfrm>
            <a:off x="8001000" y="2571840"/>
            <a:ext cx="870120" cy="857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http://tbn0.google.com/images?q=tbn:bcmMIuzf2GzUWM:http://imagenes.hola.com/noticias-de-actualidad/2007/08/16/pepino_imagen.jpg">
            <a:hlinkClick r:id="rId52"/>
          </p:cNvPr>
          <p:cNvPicPr/>
          <p:nvPr/>
        </p:nvPicPr>
        <p:blipFill>
          <a:blip r:embed="rId53"/>
          <a:stretch/>
        </p:blipFill>
        <p:spPr>
          <a:xfrm>
            <a:off x="8186760" y="4214880"/>
            <a:ext cx="957240" cy="819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http://tbn0.google.com/images?q=tbn:J2suJ8IZ1F4eCM:http://www.yoquierounodeesos.com/store/assets/images/product/dorwed/dorwed_alt1.jpg"/>
          <p:cNvPicPr/>
          <p:nvPr/>
        </p:nvPicPr>
        <p:blipFill>
          <a:blip r:embed="rId54"/>
          <a:stretch/>
        </p:blipFill>
        <p:spPr>
          <a:xfrm>
            <a:off x="7929720" y="5286240"/>
            <a:ext cx="1214280" cy="1214640"/>
          </a:xfrm>
          <a:prstGeom prst="rect">
            <a:avLst/>
          </a:prstGeom>
          <a:ln w="0">
            <a:noFill/>
          </a:ln>
        </p:spPr>
      </p:pic>
      <p:cxnSp>
        <p:nvCxnSpPr>
          <p:cNvPr id="197" name="69 Conector recto de flecha"/>
          <p:cNvCxnSpPr/>
          <p:nvPr/>
        </p:nvCxnSpPr>
        <p:spPr>
          <a:xfrm flipH="1" flipV="1">
            <a:off x="7214760" y="1285560"/>
            <a:ext cx="57240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8" name="70 Conector recto de flecha"/>
          <p:cNvCxnSpPr/>
          <p:nvPr/>
        </p:nvCxnSpPr>
        <p:spPr>
          <a:xfrm flipH="1" flipV="1">
            <a:off x="7286040" y="3071520"/>
            <a:ext cx="57204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9" name="71 Conector recto de flecha"/>
          <p:cNvCxnSpPr/>
          <p:nvPr/>
        </p:nvCxnSpPr>
        <p:spPr>
          <a:xfrm flipH="1" flipV="1">
            <a:off x="7357680" y="4571640"/>
            <a:ext cx="57240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00" name="72 Conector recto de flecha"/>
          <p:cNvCxnSpPr/>
          <p:nvPr/>
        </p:nvCxnSpPr>
        <p:spPr>
          <a:xfrm flipH="1" flipV="1">
            <a:off x="7428960" y="5714640"/>
            <a:ext cx="57204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1" name="73 CuadroTexto"/>
          <p:cNvSpPr/>
          <p:nvPr/>
        </p:nvSpPr>
        <p:spPr>
          <a:xfrm>
            <a:off x="2071800" y="15001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74 CuadroTexto"/>
          <p:cNvSpPr/>
          <p:nvPr/>
        </p:nvSpPr>
        <p:spPr>
          <a:xfrm>
            <a:off x="1163520" y="29494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75 CuadroTexto"/>
          <p:cNvSpPr/>
          <p:nvPr/>
        </p:nvSpPr>
        <p:spPr>
          <a:xfrm>
            <a:off x="642960" y="46432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76 CuadroTexto"/>
          <p:cNvSpPr/>
          <p:nvPr/>
        </p:nvSpPr>
        <p:spPr>
          <a:xfrm>
            <a:off x="264960" y="57150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77 CuadroTexto"/>
          <p:cNvSpPr/>
          <p:nvPr/>
        </p:nvSpPr>
        <p:spPr>
          <a:xfrm>
            <a:off x="2357280" y="45007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78 CuadroTexto"/>
          <p:cNvSpPr/>
          <p:nvPr/>
        </p:nvSpPr>
        <p:spPr>
          <a:xfrm>
            <a:off x="1143000" y="57150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9 CuadroTexto"/>
          <p:cNvSpPr/>
          <p:nvPr/>
        </p:nvSpPr>
        <p:spPr>
          <a:xfrm>
            <a:off x="2000160" y="57150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80 CuadroTexto"/>
          <p:cNvSpPr/>
          <p:nvPr/>
        </p:nvSpPr>
        <p:spPr>
          <a:xfrm>
            <a:off x="2857680" y="56815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81 CuadroTexto"/>
          <p:cNvSpPr/>
          <p:nvPr/>
        </p:nvSpPr>
        <p:spPr>
          <a:xfrm>
            <a:off x="3714840" y="56815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2 CuadroTexto"/>
          <p:cNvSpPr/>
          <p:nvPr/>
        </p:nvSpPr>
        <p:spPr>
          <a:xfrm>
            <a:off x="4581360" y="56642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83 CuadroTexto"/>
          <p:cNvSpPr/>
          <p:nvPr/>
        </p:nvSpPr>
        <p:spPr>
          <a:xfrm>
            <a:off x="5510160" y="566424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84 CuadroTexto"/>
          <p:cNvSpPr/>
          <p:nvPr/>
        </p:nvSpPr>
        <p:spPr>
          <a:xfrm>
            <a:off x="6429240" y="56815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85 CuadroTexto"/>
          <p:cNvSpPr/>
          <p:nvPr/>
        </p:nvSpPr>
        <p:spPr>
          <a:xfrm>
            <a:off x="4071960" y="45720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86 CuadroTexto"/>
          <p:cNvSpPr/>
          <p:nvPr/>
        </p:nvSpPr>
        <p:spPr>
          <a:xfrm>
            <a:off x="5857920" y="45720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87 CuadroTexto"/>
          <p:cNvSpPr/>
          <p:nvPr/>
        </p:nvSpPr>
        <p:spPr>
          <a:xfrm>
            <a:off x="4572000" y="28576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88 CuadroTexto"/>
          <p:cNvSpPr/>
          <p:nvPr/>
        </p:nvSpPr>
        <p:spPr>
          <a:xfrm>
            <a:off x="5357880" y="13953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9 CuadroTexto"/>
          <p:cNvSpPr/>
          <p:nvPr/>
        </p:nvSpPr>
        <p:spPr>
          <a:xfrm>
            <a:off x="2714760" y="28576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90 CuadroTexto"/>
          <p:cNvSpPr/>
          <p:nvPr/>
        </p:nvSpPr>
        <p:spPr>
          <a:xfrm>
            <a:off x="1500120" y="45007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91 CuadroTexto"/>
          <p:cNvSpPr/>
          <p:nvPr/>
        </p:nvSpPr>
        <p:spPr>
          <a:xfrm>
            <a:off x="928800" y="571500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92 CuadroTexto"/>
          <p:cNvSpPr/>
          <p:nvPr/>
        </p:nvSpPr>
        <p:spPr>
          <a:xfrm>
            <a:off x="1785960" y="56437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93 CuadroTexto"/>
          <p:cNvSpPr/>
          <p:nvPr/>
        </p:nvSpPr>
        <p:spPr>
          <a:xfrm>
            <a:off x="3189240" y="45720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94 CuadroTexto"/>
          <p:cNvSpPr/>
          <p:nvPr/>
        </p:nvSpPr>
        <p:spPr>
          <a:xfrm>
            <a:off x="2643120" y="56437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95 CuadroTexto"/>
          <p:cNvSpPr/>
          <p:nvPr/>
        </p:nvSpPr>
        <p:spPr>
          <a:xfrm>
            <a:off x="3500280" y="56437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96 CuadroTexto"/>
          <p:cNvSpPr/>
          <p:nvPr/>
        </p:nvSpPr>
        <p:spPr>
          <a:xfrm>
            <a:off x="5265720" y="56437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97 CuadroTexto"/>
          <p:cNvSpPr/>
          <p:nvPr/>
        </p:nvSpPr>
        <p:spPr>
          <a:xfrm>
            <a:off x="4357800" y="56437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98 CuadroTexto"/>
          <p:cNvSpPr/>
          <p:nvPr/>
        </p:nvSpPr>
        <p:spPr>
          <a:xfrm>
            <a:off x="6143760" y="56437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99 CuadroTexto"/>
          <p:cNvSpPr/>
          <p:nvPr/>
        </p:nvSpPr>
        <p:spPr>
          <a:xfrm>
            <a:off x="7000920" y="56437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00 CuadroTexto"/>
          <p:cNvSpPr/>
          <p:nvPr/>
        </p:nvSpPr>
        <p:spPr>
          <a:xfrm>
            <a:off x="6715080" y="457200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101 CuadroTexto"/>
          <p:cNvSpPr/>
          <p:nvPr/>
        </p:nvSpPr>
        <p:spPr>
          <a:xfrm>
            <a:off x="4929120" y="45007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102 CuadroTexto"/>
          <p:cNvSpPr/>
          <p:nvPr/>
        </p:nvSpPr>
        <p:spPr>
          <a:xfrm>
            <a:off x="6143760" y="28576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Calibri"/>
              </a:rPr>
              <a:t>¿Cuál hamburguesa 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10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100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111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101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00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11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20:35:47Z</dcterms:created>
  <dc:creator>andres</dc:creator>
  <dc:description/>
  <dc:language>en-US</dc:language>
  <cp:lastModifiedBy>andres</cp:lastModifiedBy>
  <dcterms:modified xsi:type="dcterms:W3CDTF">2008-06-09T14:34:34Z</dcterms:modified>
  <cp:revision>5</cp:revision>
  <dc:subject/>
  <dc:title>Diapositiva 1</dc:title>
</cp:coreProperties>
</file>